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85F-DDDC-4224-B6B9-F15FF800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1E6-C166-4435-8F12-74626DB2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4EB-8953-4AE1-BD9B-534C67FF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E4A-65B6-455E-BE38-0C8BD714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B53-D08F-4927-9422-D2D6114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8F7-6B59-4F72-BE3A-FD3E63FB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7BA-56C1-48D0-87BD-7E4BFA6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BA5-854D-4DB9-974B-CB106C08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A5E-D138-4D42-B029-CB43632D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AEF-B0FF-49AE-A54B-4BBB8D7A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F11-8D37-4827-8813-1A4C8340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35F-5EC6-4EF3-9D6E-BD431D28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BC8E-8860-49C0-88AE-658E1BD69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0:53:35Z</dcterms:created>
  <dc:creator>John</dc:creator>
  <dc:description/>
  <dc:language>en-US</dc:language>
  <cp:lastModifiedBy>John</cp:lastModifiedBy>
  <dcterms:modified xsi:type="dcterms:W3CDTF">2006-11-14T07:54:39Z</dcterms:modified>
  <cp:revision>43</cp:revision>
  <dc:subject/>
  <dc:title>Slide 1</dc:title>
</cp:coreProperties>
</file>