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347F-679C-4565-9FD5-959B9367D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668E-B8D2-4F4F-8822-0F2AC9302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C026-7BCD-4F97-B354-FDEF430C5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C38E-0207-4695-BC5D-AB1F8DD58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3E04-A210-4F70-BE2D-1A0DDB72B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F7EA-4DE9-4DAE-A5D3-C413B4B64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AAD1-7569-4A95-93E2-D7D69643A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51EC-1EEC-42FA-8C71-0313141A1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FA05-D764-427F-90D6-A4440A00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C2B3-9819-4724-802D-8DF0414D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1B47-8736-4567-A254-636928AA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B0BC-EC46-4E1E-8ECA-C29F2CB4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EE417-C1AE-4570-8402-396473F6F85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John\Local Settings\Temporary Internet Files\Content.IE5\NVY6RCLK\MCj04336080000[1].wmf"/>
          <p:cNvPicPr/>
          <p:nvPr/>
        </p:nvPicPr>
        <p:blipFill>
          <a:blip r:embed="rId1"/>
          <a:stretch/>
        </p:blipFill>
        <p:spPr>
          <a:xfrm>
            <a:off x="303120" y="1135080"/>
            <a:ext cx="3768840" cy="48448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sarfinia.jpg"/>
          <p:cNvPicPr/>
          <p:nvPr/>
        </p:nvPicPr>
        <p:blipFill>
          <a:blip r:embed="rId2"/>
          <a:stretch/>
        </p:blipFill>
        <p:spPr>
          <a:xfrm>
            <a:off x="4357800" y="571680"/>
            <a:ext cx="1577880" cy="98568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3929040" y="1714680"/>
            <a:ext cx="250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mall enough to be classified as an island but big enough to be a universe unto itself, Sardinia lies about 120 miles west of the Italian peninsula. Its coastline is probably Europe's most spectacu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6"/>
          <p:cNvSpPr/>
          <p:nvPr/>
        </p:nvSpPr>
        <p:spPr>
          <a:xfrm>
            <a:off x="285840" y="3571920"/>
            <a:ext cx="857160" cy="1214280"/>
          </a:xfrm>
          <a:prstGeom prst="ellipse">
            <a:avLst/>
          </a:prstGeom>
          <a:solidFill>
            <a:srgbClr val="4f81bd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5286240" y="5072040"/>
            <a:ext cx="335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lick  on Sardinia to reveal or hide the inf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4857840" y="21420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igger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6T06:19:25Z</dcterms:created>
  <dc:creator>John Wilson</dc:creator>
  <dc:description/>
  <dc:language>en-US</dc:language>
  <cp:lastModifiedBy>John Wilson</cp:lastModifiedBy>
  <dcterms:modified xsi:type="dcterms:W3CDTF">2008-03-06T07:47:43Z</dcterms:modified>
  <cp:revision>3</cp:revision>
  <dc:subject/>
  <dc:title>Slide 1</dc:title>
</cp:coreProperties>
</file>