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2F1F-508D-485A-97A1-68013CC3A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AEB9-C80C-4CD3-8948-F34112A9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BAE6-8705-4241-B9EE-3E6EE6BA2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37ED-3F07-48C8-85FA-D421586DA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B44E-23B0-48F5-B97C-5D3A2EA2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69CF-324F-4CE5-B0A3-34F5D6D4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DC07-9BBD-4BBD-9089-DFB5A95B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131E-53A0-4D15-AAB1-5FC5B035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E0A7-37DF-43F3-A35F-02F748A6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1202-C8AE-45BB-8C32-6A4679E8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3D63-B4C8-49C0-B676-E7A60999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7E6F-3B44-4E2F-9C7A-6BABD895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BCD0-E099-41AC-B529-0A2C9162E6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17:22:15Z</dcterms:created>
  <dc:creator>Trish Pemberton</dc:creator>
  <dc:description/>
  <dc:language>en-US</dc:language>
  <cp:lastModifiedBy>Trish Pemberton</cp:lastModifiedBy>
  <dcterms:modified xsi:type="dcterms:W3CDTF">2011-12-10T17:22:16Z</dcterms:modified>
  <cp:revision>2</cp:revision>
  <dc:subject/>
  <dc:title>Test</dc:title>
</cp:coreProperties>
</file>