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explod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CE6-0C8F-4720-9B23-81D27EAD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A3F-03C3-4C7F-ACEE-8C069CE0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5EE-E8C2-4E8A-BBB3-7BA28AD6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0A7-7B90-47AD-A5F6-5B3FE575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741-6DC1-40CE-B9BE-918EFC4C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9B9-70A6-4494-8FE4-F3D5FFAB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077-37DA-4744-A84B-B07BC236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F8E-5B85-4C5B-9753-0D37CB15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0CD-A4BD-4320-BF0E-DF948BEA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07F-0F0E-4629-9BA9-BF5680FE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CD9-B5A3-440F-A174-C5EC129A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C98-C9D7-45DD-B132-AE6C8257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0761-5771-4A63-A782-C56502D902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ack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11" descr=""/>
          <p:cNvPicPr/>
          <p:nvPr/>
        </p:nvPicPr>
        <p:blipFill>
          <a:blip r:embed="rId2"/>
          <a:stretch/>
        </p:blipFill>
        <p:spPr>
          <a:xfrm>
            <a:off x="1420920" y="2114640"/>
            <a:ext cx="6229080" cy="1390680"/>
          </a:xfrm>
          <a:prstGeom prst="rect">
            <a:avLst/>
          </a:prstGeom>
          <a:ln w="0">
            <a:noFill/>
          </a:ln>
        </p:spPr>
      </p:pic>
      <p:sp>
        <p:nvSpPr>
          <p:cNvPr id="43" name="S8"/>
          <p:cNvSpPr/>
          <p:nvPr/>
        </p:nvSpPr>
        <p:spPr>
          <a:xfrm>
            <a:off x="3040200" y="3978360"/>
            <a:ext cx="3063600" cy="288108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7"/>
          <p:cNvSpPr/>
          <p:nvPr/>
        </p:nvSpPr>
        <p:spPr>
          <a:xfrm>
            <a:off x="0" y="4572000"/>
            <a:ext cx="3816360" cy="228600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5"/>
          <p:cNvSpPr/>
          <p:nvPr/>
        </p:nvSpPr>
        <p:spPr>
          <a:xfrm>
            <a:off x="3032280" y="2286000"/>
            <a:ext cx="3079440" cy="230652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4"/>
          <p:cNvSpPr/>
          <p:nvPr/>
        </p:nvSpPr>
        <p:spPr>
          <a:xfrm>
            <a:off x="0" y="2287440"/>
            <a:ext cx="3830760" cy="287820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1"/>
          <p:cNvSpPr/>
          <p:nvPr/>
        </p:nvSpPr>
        <p:spPr>
          <a:xfrm>
            <a:off x="0" y="0"/>
            <a:ext cx="3835440" cy="288144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9"/>
          <p:cNvSpPr/>
          <p:nvPr/>
        </p:nvSpPr>
        <p:spPr>
          <a:xfrm flipH="1">
            <a:off x="5338800" y="4572000"/>
            <a:ext cx="3805200" cy="228600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6"/>
          <p:cNvSpPr/>
          <p:nvPr/>
        </p:nvSpPr>
        <p:spPr>
          <a:xfrm>
            <a:off x="5305320" y="2287440"/>
            <a:ext cx="3838680" cy="287208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3"/>
          <p:cNvSpPr/>
          <p:nvPr/>
        </p:nvSpPr>
        <p:spPr>
          <a:xfrm flipH="1">
            <a:off x="5345280" y="0"/>
            <a:ext cx="3798720" cy="290196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2"/>
          <p:cNvSpPr/>
          <p:nvPr/>
        </p:nvSpPr>
        <p:spPr>
          <a:xfrm>
            <a:off x="3025800" y="0"/>
            <a:ext cx="3070080" cy="289728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7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7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7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7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7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7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7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7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7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7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8:54:27Z</dcterms:created>
  <dc:creator/>
  <dc:description/>
  <dc:language>en-US</dc:language>
  <cp:lastModifiedBy/>
  <dcterms:modified xsi:type="dcterms:W3CDTF">2008-05-15T13:12:22Z</dcterms:modified>
  <cp:revision>4</cp:revision>
  <dc:subject/>
  <dc:title>Slide 1</dc:title>
</cp:coreProperties>
</file>