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B95D-F465-4CDE-A71F-C0128F84C1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9DA7-FE31-404D-A459-817F3D1883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59C5-BCAC-447E-88F2-A7A956E909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DCB-03DD-45AD-B1FB-8DDCD6DC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0CB-66E5-49C0-A138-E4091571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15D-7608-41EC-B58A-65F6A30E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9E0-13EF-4437-87E8-4F1A97F0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66B-D1CC-499A-812F-A373D7B1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B0E-F475-4E0F-9C6B-FEF22DF4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A9B-1804-401A-AEEB-29554D89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CBB-436A-48DF-8ED6-000B00F8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455-7F36-4454-8B2F-294BB666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141-10B8-49FC-902F-C700D70A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9FA-C5BC-40B6-ACFD-F146D03B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D08-0408-4A6A-9243-9DEC0CEC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DEC8-26BC-4F50-AFF6-BE77E27C46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ction Button: Custom 3"/>
          <p:cNvSpPr/>
          <p:nvPr/>
        </p:nvSpPr>
        <p:spPr>
          <a:xfrm>
            <a:off x="1057320" y="50004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ction Button: Custom 4"/>
          <p:cNvSpPr/>
          <p:nvPr/>
        </p:nvSpPr>
        <p:spPr>
          <a:xfrm>
            <a:off x="1947960" y="50004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ction Button: Custom 5"/>
          <p:cNvSpPr/>
          <p:nvPr/>
        </p:nvSpPr>
        <p:spPr>
          <a:xfrm>
            <a:off x="2838600" y="50004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ction Button: Custom 6">
            <a:hlinkClick r:id="" action="ppaction://hlinkshowjump?jump=nextslide"/>
          </p:cNvPr>
          <p:cNvSpPr/>
          <p:nvPr/>
        </p:nvSpPr>
        <p:spPr>
          <a:xfrm>
            <a:off x="3730680" y="48564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on Button: Custom 7"/>
          <p:cNvSpPr/>
          <p:nvPr/>
        </p:nvSpPr>
        <p:spPr>
          <a:xfrm>
            <a:off x="1057320" y="50004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ction Button: Custom 9"/>
          <p:cNvSpPr/>
          <p:nvPr/>
        </p:nvSpPr>
        <p:spPr>
          <a:xfrm>
            <a:off x="3730680" y="49860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023840" y="326880"/>
            <a:ext cx="3570480" cy="1117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RONG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You mad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2:10:14Z</dcterms:created>
  <dc:creator>JohnnyW</dc:creator>
  <dc:description/>
  <dc:language>en-US</dc:language>
  <cp:lastModifiedBy>JohnnyW</cp:lastModifiedBy>
  <dcterms:modified xsi:type="dcterms:W3CDTF">2009-09-17T13:05:56Z</dcterms:modified>
  <cp:revision>1</cp:revision>
  <dc:subject/>
  <dc:title>Slide 1</dc:title>
</cp:coreProperties>
</file>