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A0E-9E5C-43CC-993C-F555E555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1FA-B421-4CEA-8628-AAF43D4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382-CA10-4784-B527-3A6D002F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DC0-0220-43F8-B000-9EE23618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BAB-55BD-4461-96C8-35B85406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F96-E8F8-4A06-9F5B-43839262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499-2172-4D52-BDF8-208EEF5B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C9C-044A-4FBA-825A-F964E3B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7C0-7814-480F-80E5-864095E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8C1-5A01-4AAD-B950-FAE2F03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D19-8798-4990-8295-416E175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576-73A4-4A98-8625-F9C07EB7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601-8714-4611-96DE-D572298566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miley Face 18"/>
          <p:cNvSpPr/>
          <p:nvPr/>
        </p:nvSpPr>
        <p:spPr>
          <a:xfrm>
            <a:off x="838080" y="6858000"/>
            <a:ext cx="609840" cy="4572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miley Face 19"/>
          <p:cNvSpPr/>
          <p:nvPr/>
        </p:nvSpPr>
        <p:spPr>
          <a:xfrm>
            <a:off x="1219320" y="609480"/>
            <a:ext cx="2057400" cy="19814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Triangle 20"/>
          <p:cNvSpPr/>
          <p:nvPr/>
        </p:nvSpPr>
        <p:spPr>
          <a:xfrm rot="10800000">
            <a:off x="6477120" y="0"/>
            <a:ext cx="2666880" cy="22860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1"/>
          <p:cNvSpPr/>
          <p:nvPr/>
        </p:nvSpPr>
        <p:spPr>
          <a:xfrm>
            <a:off x="5181480" y="19810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use Over Top Right Cor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2"/>
          <p:cNvSpPr/>
          <p:nvPr/>
        </p:nvSpPr>
        <p:spPr>
          <a:xfrm>
            <a:off x="3662280" y="36576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GAI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429000" y="4343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AGAI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8:15:27Z</dcterms:created>
  <dc:creator>John</dc:creator>
  <dc:description/>
  <dc:language>en-US</dc:language>
  <cp:lastModifiedBy>John</cp:lastModifiedBy>
  <dcterms:modified xsi:type="dcterms:W3CDTF">2010-07-27T08:56:28Z</dcterms:modified>
  <cp:revision>5</cp:revision>
  <dc:subject/>
  <dc:title>Slide 1</dc:title>
</cp:coreProperties>
</file>