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8246-90C1-4AC5-B6D4-D6F3B5AF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829-26EB-4055-887F-3AC85CBD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FFB9-4D4F-4A77-84AB-40A66F29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473B-8A3D-451A-A6D6-E8F09441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341C-5E41-421B-A2A8-AA3AF3AF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E4B-8F86-49CE-A002-C2E10134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A55-85EA-448C-9E2E-76093E4A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5F40-CA15-4E94-B46A-6D0428B2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23B-07BB-4F81-B94F-14B2D088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9110-2016-42BA-A2CF-F9227961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269-D86D-4165-87B0-AEBF656D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CCCB-6C0F-4BBA-B226-36776C84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5E47-D015-4EE6-8552-A200808994A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all"/>
          <p:cNvSpPr/>
          <p:nvPr/>
        </p:nvSpPr>
        <p:spPr>
          <a:xfrm rot="5400000">
            <a:off x="2698560" y="658800"/>
            <a:ext cx="500040" cy="500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own"/>
          <p:cNvSpPr/>
          <p:nvPr/>
        </p:nvSpPr>
        <p:spPr>
          <a:xfrm>
            <a:off x="6929280" y="5715000"/>
            <a:ext cx="71460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ight"/>
          <p:cNvSpPr/>
          <p:nvPr/>
        </p:nvSpPr>
        <p:spPr>
          <a:xfrm rot="16200000">
            <a:off x="7608240" y="5107680"/>
            <a:ext cx="71424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up"/>
          <p:cNvSpPr/>
          <p:nvPr/>
        </p:nvSpPr>
        <p:spPr>
          <a:xfrm rot="10800000">
            <a:off x="6928920" y="4500720"/>
            <a:ext cx="71460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eft"/>
          <p:cNvSpPr/>
          <p:nvPr/>
        </p:nvSpPr>
        <p:spPr>
          <a:xfrm rot="5400000">
            <a:off x="6250320" y="5107680"/>
            <a:ext cx="714240" cy="642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08:53:15Z</dcterms:created>
  <dc:creator>John Wilson</dc:creator>
  <dc:description/>
  <dc:language>en-US</dc:language>
  <cp:lastModifiedBy>John Wilson</cp:lastModifiedBy>
  <dcterms:modified xsi:type="dcterms:W3CDTF">2008-06-06T09:55:06Z</dcterms:modified>
  <cp:revision>7</cp:revision>
  <dc:subject/>
  <dc:title>Slide 1</dc:title>
</cp:coreProperties>
</file>