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DE2-2C25-4B2A-9EE4-266A1441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130-4474-4727-9627-24F24BE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DE9-50B4-41B1-A814-E65907F0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D6C-DE85-4858-942E-C0FDDB91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439-3676-4F55-8742-80CAB0C2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B16-D3F5-4A2E-9183-31DAFDFA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4F2-184C-451F-BBD3-296E9D4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FF9-F7D8-4DA5-81AC-F56CEA0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365-C3DF-4590-B36D-C2F2CD8B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83B-9498-4133-B7DA-2582889A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746-AC8D-4E82-A4EA-919E90D8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996-2B5E-47C9-B580-9550EF1B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145F-F0DA-464E-93FA-91F61370B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233712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2887560" cy="440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2337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6:01:19Z</dcterms:created>
  <dc:creator>Technology Trish</dc:creator>
  <dc:description/>
  <dc:language>en-US</dc:language>
  <cp:lastModifiedBy>Technology Trish</cp:lastModifiedBy>
  <dcterms:modified xsi:type="dcterms:W3CDTF">2007-02-13T06:16:52Z</dcterms:modified>
  <cp:revision>2</cp:revision>
  <dc:subject/>
  <dc:title>Slide 1</dc:title>
</cp:coreProperties>
</file>