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  <p:custShowLst>
    <p:custShow name="zoom man" id="0">
      <p:sldLst>
        <p:sld r:id="rId6"/>
        <p:sld r:id="rId7"/>
      </p:sldLst>
    </p:custShow>
    <p:custShow name="zoom woman" id="1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8FC-32AA-457D-8BF1-4B86540E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917-2314-4CE2-95F8-2EF032E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D4E-D0F6-4ECF-8FEA-103BD3B3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3EE-C630-445F-8FA1-970AB95F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D98-FE2E-46EE-A51C-2FCCBA3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445-9C34-4BE3-9290-A0973042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57B-EBC6-488D-A045-81974286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5A7-58C2-4A2C-A1E6-A4E739D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BC6-C94A-420F-AC6F-E0359EE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94F-5EFE-4819-A2E7-ABC2CAD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E37-74CC-4332-BC1A-7CB46FF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5E3-4B25-4676-94CB-41C2C9D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8F8A-9F89-433C-852C-AE7607AA6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2060640"/>
            <a:ext cx="1224000" cy="1368360"/>
          </a:xfrm>
          <a:prstGeom prst="ellipse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1484280"/>
            <a:ext cx="1224000" cy="1368360"/>
          </a:xfrm>
          <a:prstGeom prst="ellipse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572000" y="83664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12392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12392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258920" y="98100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134136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98100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8:20:45Z</dcterms:created>
  <dc:creator>Technology Trish</dc:creator>
  <dc:description/>
  <dc:language>en-US</dc:language>
  <cp:lastModifiedBy>Technology Trish</cp:lastModifiedBy>
  <dcterms:modified xsi:type="dcterms:W3CDTF">2007-02-14T08:32:07Z</dcterms:modified>
  <cp:revision>2</cp:revision>
  <dc:subject/>
  <dc:title>Slide 1</dc:title>
</cp:coreProperties>
</file>